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9BE5-99FA-4542-95BD-1A31BBFD71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9519-F740-4AB1-9678-565F65379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7D89-534B-4B57-BFF5-FAC468AAA8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2E54-D4E1-4B9C-87E5-369EF92889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35F6-4852-4540-AABA-D51EDF0638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456D-8BFE-4545-A0F2-8056E5A2ED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5979-7186-4098-9F86-6FA5DC4315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BF35-D748-4C8C-8C23-10ACCE9F12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E7EC-8CBD-4D09-834E-C5108F5F8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6AA2-8135-4699-8089-510D6D5B54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E9C4-C36E-4ED8-B728-7216796BD0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0F54-EF3F-42CB-B820-29C1A8B740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F505-1EA9-41B1-942C-672204C516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AA9D-8A68-4FBB-AB7D-67643F17C9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0A2A-A279-4E81-B082-0CAB1ACF6E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9349-14ED-4323-B91A-A3EEB3D377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2633-0789-4B19-B80C-18FBB7B261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00BF-C4D3-4DDA-8D39-351810A95A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C7BE-619B-4B28-9885-6E0B66784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00AA-2A95-4512-B623-69592FD9ED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4D80-FD60-4999-8E85-46BBB3D1E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B024-127B-4AC5-909D-9EBA0362A4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80F6-5AA9-4AC2-81B5-5CCEDEC961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1BE2-D6BE-4240-B876-6C6FE8B663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1AC8-25C8-4AA8-A340-38E9C19457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46B5-9EB6-4DA4-84EB-A4DFC2F00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DD41-7424-4B8D-9ED3-5C8B7FE323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0F2-08B0-47AB-9AFD-D33CC128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7FB-922D-4828-894F-E3EE6555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EF8-DA48-4522-9FA7-C413DC83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390-7A9C-43F2-95EE-16DA5570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319-DDA8-44BA-99FD-DE5DF5A4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8F1-6698-4BC2-8343-06E75532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068F-5B4B-4A16-8198-AC17E162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221-1E4D-4781-BBD4-A3C820F9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FCD-83A5-4B0D-91B7-D747D016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647-202E-42B7-8BCC-6C0CA750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B9B-46E8-4209-8664-5D45BAC6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C85-CC51-4954-B327-1E50FD74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7742-0E25-44B7-BC91-2B66B56393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66cc"/>
                </a:solidFill>
                <a:uFillTx/>
                <a:latin typeface="Arial"/>
              </a:rPr>
              <a:t>МОЙ ДВ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IMG_7356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65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66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дворе мальчики играют в футбо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_7434"/>
          <p:cNvPicPr/>
          <p:nvPr/>
        </p:nvPicPr>
        <p:blipFill>
          <a:blip r:embed="rId1"/>
          <a:stretch/>
        </p:blipFill>
        <p:spPr>
          <a:xfrm>
            <a:off x="1066680" y="1523880"/>
            <a:ext cx="7315200" cy="5029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054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 люблю играть в песочни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IMG_7301"/>
          <p:cNvPicPr/>
          <p:nvPr/>
        </p:nvPicPr>
        <p:blipFill>
          <a:blip r:embed="rId1"/>
          <a:stretch/>
        </p:blipFill>
        <p:spPr>
          <a:xfrm>
            <a:off x="1219320" y="1371600"/>
            <a:ext cx="7238880" cy="537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894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 беру с собой ведерко, совочек, формочки, машинки для иг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IMG_7296"/>
          <p:cNvPicPr/>
          <p:nvPr/>
        </p:nvPicPr>
        <p:blipFill>
          <a:blip r:embed="rId1"/>
          <a:stretch/>
        </p:blipFill>
        <p:spPr>
          <a:xfrm>
            <a:off x="685800" y="1371600"/>
            <a:ext cx="8001000" cy="533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89107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157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возиться в песке любят даже ма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IMG_7430"/>
          <p:cNvPicPr/>
          <p:nvPr/>
        </p:nvPicPr>
        <p:blipFill>
          <a:blip r:embed="rId1"/>
          <a:stretch/>
        </p:blipFill>
        <p:spPr>
          <a:xfrm>
            <a:off x="1523880" y="1461960"/>
            <a:ext cx="6705720" cy="5281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5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хочешь быть сильным, нужно подтягиваться на турн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IMG_7431"/>
          <p:cNvPicPr/>
          <p:nvPr/>
        </p:nvPicPr>
        <p:blipFill>
          <a:blip r:embed="rId1"/>
          <a:stretch/>
        </p:blipFill>
        <p:spPr>
          <a:xfrm>
            <a:off x="1676520" y="1447920"/>
            <a:ext cx="5987880" cy="5294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58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лестница, если залезть высоко, то можно увидеть далек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IMG_7408"/>
          <p:cNvPicPr/>
          <p:nvPr/>
        </p:nvPicPr>
        <p:blipFill>
          <a:blip r:embed="rId1"/>
          <a:stretch/>
        </p:blipFill>
        <p:spPr>
          <a:xfrm>
            <a:off x="2666880" y="1295280"/>
            <a:ext cx="3862440" cy="556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727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дворе можно увидеть голубей и воробь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IMG_7372"/>
          <p:cNvPicPr/>
          <p:nvPr/>
        </p:nvPicPr>
        <p:blipFill>
          <a:blip r:embed="rId1"/>
          <a:stretch/>
        </p:blipFill>
        <p:spPr>
          <a:xfrm>
            <a:off x="914400" y="1523880"/>
            <a:ext cx="7467480" cy="525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68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зрослые выгуливают соб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IMG_7429"/>
          <p:cNvPicPr/>
          <p:nvPr/>
        </p:nvPicPr>
        <p:blipFill>
          <a:blip r:embed="rId1"/>
          <a:stretch/>
        </p:blipFill>
        <p:spPr>
          <a:xfrm>
            <a:off x="1143000" y="1219320"/>
            <a:ext cx="6858000" cy="5497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50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ты гуляют сами по се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IMG_7386"/>
          <p:cNvPicPr/>
          <p:nvPr/>
        </p:nvPicPr>
        <p:blipFill>
          <a:blip r:embed="rId1"/>
          <a:stretch/>
        </p:blipFill>
        <p:spPr>
          <a:xfrm>
            <a:off x="1295280" y="1371600"/>
            <a:ext cx="7162920" cy="537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44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ядом с домом есть магазин, где мы покупаем проду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IMG_7383"/>
          <p:cNvPicPr/>
          <p:nvPr/>
        </p:nvPicPr>
        <p:blipFill>
          <a:blip r:embed="rId1"/>
          <a:stretch/>
        </p:blipFill>
        <p:spPr>
          <a:xfrm>
            <a:off x="1770120" y="1600200"/>
            <a:ext cx="6383160" cy="5156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414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мой дом, здесь я жи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IMG_7436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554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8910720" y="71629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13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усор потом выбрасываем в специальные б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IMG_7370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5303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7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353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еще во дворе есть фонтанчик, где плавают ра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MG_7240"/>
          <p:cNvPicPr/>
          <p:nvPr/>
        </p:nvPicPr>
        <p:blipFill>
          <a:blip r:embed="rId1"/>
          <a:stretch/>
        </p:blipFill>
        <p:spPr>
          <a:xfrm>
            <a:off x="1219320" y="1523880"/>
            <a:ext cx="6705360" cy="525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442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 дворе растут разные дере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IMG_7381"/>
          <p:cNvPicPr/>
          <p:nvPr/>
        </p:nvPicPr>
        <p:blipFill>
          <a:blip r:embed="rId1"/>
          <a:stretch/>
        </p:blipFill>
        <p:spPr>
          <a:xfrm>
            <a:off x="914400" y="1600200"/>
            <a:ext cx="7620120" cy="508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902664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84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веты - ромашки  и  одуван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IMG_7252"/>
          <p:cNvPicPr/>
          <p:nvPr/>
        </p:nvPicPr>
        <p:blipFill>
          <a:blip r:embed="rId1"/>
          <a:stretch/>
        </p:blipFill>
        <p:spPr>
          <a:xfrm>
            <a:off x="228600" y="1981080"/>
            <a:ext cx="4952880" cy="417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6" name="Picture 8" descr="MCj01228530000[1]"/>
          <p:cNvPicPr/>
          <p:nvPr/>
        </p:nvPicPr>
        <p:blipFill>
          <a:blip r:embed="rId2"/>
          <a:stretch/>
        </p:blipFill>
        <p:spPr>
          <a:xfrm>
            <a:off x="5178600" y="1752480"/>
            <a:ext cx="3965400" cy="452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3333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это растение -подор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IMG_7388"/>
          <p:cNvPicPr/>
          <p:nvPr/>
        </p:nvPicPr>
        <p:blipFill>
          <a:blip r:embed="rId1"/>
          <a:stretch/>
        </p:blipFill>
        <p:spPr>
          <a:xfrm>
            <a:off x="1523880" y="1371600"/>
            <a:ext cx="6340680" cy="5349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9144000" y="6740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59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 люблю свой двор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IMG_7356"/>
          <p:cNvPicPr/>
          <p:nvPr/>
        </p:nvPicPr>
        <p:blipFill>
          <a:blip r:embed="rId1"/>
          <a:stretch/>
        </p:blipFill>
        <p:spPr>
          <a:xfrm>
            <a:off x="304920" y="1415880"/>
            <a:ext cx="8534160" cy="537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89107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214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cc"/>
                </a:solidFill>
                <a:latin typeface="Arial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мои соседи, они тоже живут в этом дом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MG_7374"/>
          <p:cNvPicPr/>
          <p:nvPr/>
        </p:nvPicPr>
        <p:blipFill>
          <a:blip r:embed="rId1"/>
          <a:stretch/>
        </p:blipFill>
        <p:spPr>
          <a:xfrm>
            <a:off x="1752480" y="1371600"/>
            <a:ext cx="5867640" cy="5354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о моя детская площад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IMG_7390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515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9" name="Picture 7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78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534520" cy="11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ьше всего я люблю кач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IMG_7359"/>
          <p:cNvPicPr/>
          <p:nvPr/>
        </p:nvPicPr>
        <p:blipFill>
          <a:blip r:embed="rId1"/>
          <a:stretch/>
        </p:blipFill>
        <p:spPr>
          <a:xfrm>
            <a:off x="1828800" y="1371600"/>
            <a:ext cx="5630760" cy="5245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902664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203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ли бываю раз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IMG_7392"/>
          <p:cNvPicPr/>
          <p:nvPr/>
        </p:nvPicPr>
        <p:blipFill>
          <a:blip r:embed="rId1"/>
          <a:stretch/>
        </p:blipFill>
        <p:spPr>
          <a:xfrm>
            <a:off x="1219320" y="1371600"/>
            <a:ext cx="6883200" cy="5334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654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ты любишь качать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MG_7399"/>
          <p:cNvPicPr/>
          <p:nvPr/>
        </p:nvPicPr>
        <p:blipFill>
          <a:blip r:embed="rId1"/>
          <a:stretch/>
        </p:blipFill>
        <p:spPr>
          <a:xfrm>
            <a:off x="1523880" y="1371600"/>
            <a:ext cx="6477120" cy="5394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8" name="Picture 7" descr=""/>
          <p:cNvPicPr/>
          <p:nvPr/>
        </p:nvPicPr>
        <p:blipFill>
          <a:blip r:embed="rId2"/>
          <a:stretch/>
        </p:blipFill>
        <p:spPr>
          <a:xfrm>
            <a:off x="8763120" y="70866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45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это высокая го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IMG_7401"/>
          <p:cNvPicPr/>
          <p:nvPr/>
        </p:nvPicPr>
        <p:blipFill>
          <a:blip r:embed="rId1"/>
          <a:stretch/>
        </p:blipFill>
        <p:spPr>
          <a:xfrm>
            <a:off x="762120" y="1447920"/>
            <a:ext cx="7848360" cy="523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8910720" y="68580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36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нее здорово скатываться вн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IMG_7405"/>
          <p:cNvPicPr/>
          <p:nvPr/>
        </p:nvPicPr>
        <p:blipFill>
          <a:blip r:embed="rId1"/>
          <a:stretch/>
        </p:blipFill>
        <p:spPr>
          <a:xfrm>
            <a:off x="1752480" y="1447920"/>
            <a:ext cx="5867640" cy="5279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8910720" y="701028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73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27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